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9812-38F7-49E1-BB3F-282CD5CB3E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1) 40N 80W, (2)20S 60W, (3)80N 40W,(4)40S 20W, (5)20N 20E, (6)20S 20E, (7) 60N 40E, (8)40N 100E, 20N 120E, 20S 14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rlin, Ankara, Madrid, Oslo, Moscow, Reyjavik, Helsinki,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Congo, Bit of Botswana, Zimbabwe, Mozambique, Kenya, Uganda. All of Kigali, Tanzania, Zambia, Burundi, Malaw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E63D-E3F6-42B1-8D01-D1D4283BE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BF1B-93CC-4497-9232-82990F4A7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26A7-E802-46D2-B642-BB3218E62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41112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BE85-E128-4B65-81B2-95F19607B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2D8D-058E-47E3-988A-4DBFE1A4D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3F14-1180-4D80-8D07-E98A17A5E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1526-808F-4632-91B5-94BD632FE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6619-2C2A-4FB6-9F2A-61E54E26F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8DE1-20F8-44E5-90F6-35BEF251D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7C8A-01A2-4508-8EAD-0C0A9F5A5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41112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CBAD-06C7-42F5-8829-175A51CA5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1112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013B-5784-41CD-A0EF-C68C61CC9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24852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6BC0-DC3F-4B97-8293-F8DF1FB472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ationalgeographic.com/xpeditions/atlas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Where in the world is …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1 Less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9419-AC7E-4BEF-9A34-5FB688A17C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Just to be awkward ….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le for graphs, the coordinates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long the corridor and up the sta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maps it is the other way 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2438280"/>
            <a:ext cx="1905120" cy="533520"/>
          </a:xfrm>
          <a:prstGeom prst="rightArrow">
            <a:avLst>
              <a:gd name="adj1" fmla="val 50000"/>
              <a:gd name="adj2" fmla="val 892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523880"/>
            <a:ext cx="533160" cy="1219320"/>
          </a:xfrm>
          <a:prstGeom prst="upArrow">
            <a:avLst>
              <a:gd name="adj1" fmla="val 50000"/>
              <a:gd name="adj2" fmla="val 571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1905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297180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,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267080"/>
            <a:ext cx="914400" cy="1447920"/>
          </a:xfrm>
          <a:prstGeom prst="upArrow">
            <a:avLst>
              <a:gd name="adj1" fmla="val 50000"/>
              <a:gd name="adj2" fmla="val 39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828800" cy="533520"/>
          </a:xfrm>
          <a:prstGeom prst="rightArrow">
            <a:avLst>
              <a:gd name="adj1" fmla="val 50000"/>
              <a:gd name="adj2" fmla="val 856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60199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   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8481-6B72-4F8A-9EA2-53A7BA47A7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ike this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114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on the 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it is on 1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written 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 1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rcRect l="47027" t="0" r="0" b="0"/>
          <a:stretch/>
        </p:blipFill>
        <p:spPr>
          <a:xfrm>
            <a:off x="108000" y="1066680"/>
            <a:ext cx="4546440" cy="5524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3379680" y="2590920"/>
            <a:ext cx="1828800" cy="3045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2746440"/>
            <a:ext cx="3097440" cy="349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79280" y="2781000"/>
            <a:ext cx="0" cy="1104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133720"/>
            <a:ext cx="503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213000"/>
            <a:ext cx="457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32000" y="2781360"/>
            <a:ext cx="216000" cy="216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81240" y="2781360"/>
            <a:ext cx="289080" cy="216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F2F1-1BA2-4F37-B325-481D13FF3F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6019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ing on the LHS of the pag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5280" y="476280"/>
            <a:ext cx="8534520" cy="5470560"/>
            <a:chOff x="395280" y="476280"/>
            <a:chExt cx="8534520" cy="5470560"/>
          </a:xfrm>
        </p:grpSpPr>
        <p:grpSp>
          <p:nvGrpSpPr>
            <p:cNvPr id="113" name=""/>
            <p:cNvGrpSpPr/>
            <p:nvPr/>
          </p:nvGrpSpPr>
          <p:grpSpPr>
            <a:xfrm>
              <a:off x="395280" y="476280"/>
              <a:ext cx="8534520" cy="5470560"/>
              <a:chOff x="395280" y="476280"/>
              <a:chExt cx="8534520" cy="5470560"/>
            </a:xfrm>
          </p:grpSpPr>
          <p:pic>
            <p:nvPicPr>
              <p:cNvPr id="114" name="world" descr="World"/>
              <p:cNvPicPr/>
              <p:nvPr/>
            </p:nvPicPr>
            <p:blipFill>
              <a:blip r:embed="rId1"/>
              <a:stretch/>
            </p:blipFill>
            <p:spPr>
              <a:xfrm>
                <a:off x="395280" y="476280"/>
                <a:ext cx="8534520" cy="547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992760" y="4060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01000" y="2568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56320" y="1164960"/>
                <a:ext cx="51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33920" y="2035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64200" y="1558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59280" y="3530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85120" y="3539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22640" y="3546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59280" y="2536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488280" y="2003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Wingdings 2"/>
                    <a:ea typeface="Wingdings 2"/>
                  </a:rPr>
                  <a:t>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700360" y="191628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16360" y="3573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1280" y="148428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67280" y="443700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6360" y="2565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16360" y="3573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8720" y="1557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7640" y="1989000"/>
              <a:ext cx="2876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77080" y="2565360"/>
              <a:ext cx="2872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4360" y="3573360"/>
              <a:ext cx="432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B217-8709-495E-9E8D-4D2B6B686E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But what if the place is not on a line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you have been measuring is degr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degrees (believe it or not) has 60 minutes in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get exact locations, you simply guess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s look at 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5354-E7E7-4832-B337-F2286F5138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941560" y="228600"/>
            <a:ext cx="5973840" cy="5299200"/>
            <a:chOff x="2941560" y="228600"/>
            <a:chExt cx="5973840" cy="529920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2941560" y="228600"/>
              <a:ext cx="5973840" cy="52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19520" y="2946240"/>
              <a:ext cx="4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Wingdings 2"/>
                  <a:ea typeface="Wingdings 2"/>
                </a:rPr>
                <a:t>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2590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is is between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would guess about 48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ween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atlas says Paris is 48 52N 2 20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bad. And I didn’t che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1628640"/>
            <a:ext cx="2017800" cy="2232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1628640"/>
            <a:ext cx="1655640" cy="1152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411280" y="2276640"/>
            <a:ext cx="2521080" cy="1512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08000" y="4076640"/>
            <a:ext cx="3527640" cy="216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9DB7-E948-4977-82BC-3F918872F6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2590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am I thinking of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N 13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N 34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1N 4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N 11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N 38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5N 21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N 25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4N 8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6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2771640" y="981000"/>
            <a:ext cx="6193080" cy="5456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84360" y="4653000"/>
            <a:ext cx="57492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2997360"/>
            <a:ext cx="57492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1341360"/>
            <a:ext cx="5745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49360"/>
            <a:ext cx="5041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W   10W     0      10E    20E  30E  40E      50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119E-7411-4E14-8915-824671CE72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 work is a puzz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4ED7-FDFE-46DE-AB97-CFCB2ACA61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259920"/>
            <a:ext cx="838224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Mi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ack the code to find out where the thieves are taking the loo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ef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afty robbers broke into the Royal Geographical Society in London and stole armfuls of priceless maps. Finding them would be hopeless, except that they dropped a scrap of paper with some odd scribbles on 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the top is a rhyme that seems to be an instruction from the thieves' bos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irst letters from each place-name read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pell out the town and come with speed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FF6A-7301-41E7-81EF-C77B8F88E8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880" y="259920"/>
            <a:ext cx="838224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note doesn't mention any places! All you see are weird combinations of letters and numbers. Luckily, a sharp-eyed geographer peers over your shoulder and says, "Coordinates. How fascinating!" She refreshes your memory on latitude and longitude, those imaginary lines that help us locate plac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mbers, you realize, are the coordinates for cities all over the plan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) Find those places in an atlas or on a map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As you find each place, write its name next to the coordinat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) Circle the first letter of each nam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ad the letters from top to bottom, and they should spell the name of a city. Now you know where to nab those cartographic crook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8181-C5B1-47A5-9333-771C3769C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82920" y="2109960"/>
            <a:ext cx="5473800" cy="477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2266"/>
                </a:solidFill>
                <a:latin typeface="Comic Sans MS"/>
              </a:rPr>
              <a:t>The thieves who broke into the Royal Geographical Society left behind this code. </a:t>
            </a:r>
            <a:br>
              <a:rPr sz="2400"/>
            </a:br>
            <a:r>
              <a:rPr b="1" lang="en-US" sz="2400" spc="-1" strike="noStrike">
                <a:solidFill>
                  <a:srgbClr val="aa2266"/>
                </a:solidFill>
                <a:latin typeface="Comic Sans MS"/>
              </a:rPr>
              <a:t>(As a bonus clue, we’ve added the number of letters in each city’s name.)</a:t>
            </a: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0359-2165-43BD-B221-196F10E0A4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4320" y="333360"/>
            <a:ext cx="5468760" cy="619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1147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a2266"/>
                </a:solidFill>
                <a:latin typeface="Comic Sans MS"/>
              </a:rPr>
              <a:t>In the index, there are 2 types of entry</a:t>
            </a:r>
            <a:br>
              <a:rPr sz="3200"/>
            </a:br>
            <a:r>
              <a:rPr b="1" lang="en-US" sz="3200" spc="-1" strike="noStrike">
                <a:solidFill>
                  <a:srgbClr val="aa2266"/>
                </a:solidFill>
                <a:latin typeface="Comic Sans MS"/>
              </a:rPr>
              <a:t>Nigeria 51 B4</a:t>
            </a:r>
            <a:endParaRPr b="0" lang="en-US" sz="32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3068640"/>
            <a:ext cx="1150920" cy="576360"/>
          </a:xfrm>
          <a:prstGeom prst="wedgeRoundRectCallout">
            <a:avLst>
              <a:gd name="adj1" fmla="val 89861"/>
              <a:gd name="adj2" fmla="val -21694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916360" y="620640"/>
            <a:ext cx="26636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1989000"/>
            <a:ext cx="568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49360"/>
            <a:ext cx="11509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05200" y="549360"/>
            <a:ext cx="371520" cy="5975280"/>
          </a:xfrm>
          <a:custGeom>
            <a:avLst/>
            <a:gdLst/>
            <a:ahLst/>
            <a:rect l="l" t="t" r="r" b="b"/>
            <a:pathLst>
              <a:path w="234" h="3764">
                <a:moveTo>
                  <a:pt x="234" y="0"/>
                </a:moveTo>
                <a:cubicBezTo>
                  <a:pt x="184" y="306"/>
                  <a:pt x="135" y="612"/>
                  <a:pt x="97" y="952"/>
                </a:cubicBezTo>
                <a:cubicBezTo>
                  <a:pt x="59" y="1292"/>
                  <a:pt x="14" y="1640"/>
                  <a:pt x="7" y="2041"/>
                </a:cubicBezTo>
                <a:cubicBezTo>
                  <a:pt x="0" y="2442"/>
                  <a:pt x="29" y="3069"/>
                  <a:pt x="52" y="3356"/>
                </a:cubicBezTo>
                <a:cubicBezTo>
                  <a:pt x="75" y="3643"/>
                  <a:pt x="128" y="3696"/>
                  <a:pt x="143" y="3764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549360"/>
            <a:ext cx="73080" cy="5975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75640" y="2060640"/>
            <a:ext cx="0" cy="158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060640"/>
            <a:ext cx="5256000" cy="288720"/>
          </a:xfrm>
          <a:custGeom>
            <a:avLst/>
            <a:gdLst/>
            <a:ahLst/>
            <a:rect l="l" t="t" r="r" b="b"/>
            <a:pathLst>
              <a:path w="3311" h="182">
                <a:moveTo>
                  <a:pt x="3311" y="0"/>
                </a:moveTo>
                <a:cubicBezTo>
                  <a:pt x="3122" y="53"/>
                  <a:pt x="2933" y="106"/>
                  <a:pt x="2676" y="136"/>
                </a:cubicBezTo>
                <a:cubicBezTo>
                  <a:pt x="2419" y="166"/>
                  <a:pt x="2064" y="182"/>
                  <a:pt x="1769" y="182"/>
                </a:cubicBezTo>
                <a:cubicBezTo>
                  <a:pt x="1474" y="182"/>
                  <a:pt x="1202" y="166"/>
                  <a:pt x="907" y="136"/>
                </a:cubicBezTo>
                <a:cubicBezTo>
                  <a:pt x="612" y="106"/>
                  <a:pt x="306" y="53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3645000"/>
            <a:ext cx="5256000" cy="228600"/>
          </a:xfrm>
          <a:custGeom>
            <a:avLst/>
            <a:gdLst/>
            <a:ahLst/>
            <a:rect l="l" t="t" r="r" b="b"/>
            <a:pathLst>
              <a:path w="3311" h="144">
                <a:moveTo>
                  <a:pt x="3311" y="0"/>
                </a:moveTo>
                <a:cubicBezTo>
                  <a:pt x="3163" y="11"/>
                  <a:pt x="3016" y="22"/>
                  <a:pt x="2767" y="45"/>
                </a:cubicBezTo>
                <a:cubicBezTo>
                  <a:pt x="2518" y="68"/>
                  <a:pt x="2140" y="128"/>
                  <a:pt x="1815" y="136"/>
                </a:cubicBezTo>
                <a:cubicBezTo>
                  <a:pt x="1490" y="144"/>
                  <a:pt x="1119" y="114"/>
                  <a:pt x="817" y="91"/>
                </a:cubicBezTo>
                <a:cubicBezTo>
                  <a:pt x="515" y="68"/>
                  <a:pt x="257" y="34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8F1A-EB2A-4097-887D-95FBD87900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et’s do 36 52 S 174 46 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052280"/>
            <a:ext cx="8382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nationalgeographic.com/xpeditions/atla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atlas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0920" y="1566720"/>
            <a:ext cx="7416720" cy="4957920"/>
            <a:chOff x="250920" y="1566720"/>
            <a:chExt cx="7416720" cy="4957920"/>
          </a:xfrm>
        </p:grpSpPr>
        <p:pic>
          <p:nvPicPr>
            <p:cNvPr id="162" name="" descr="Map of World"/>
            <p:cNvPicPr/>
            <p:nvPr/>
          </p:nvPicPr>
          <p:blipFill>
            <a:blip r:embed="rId4"/>
            <a:stretch/>
          </p:blipFill>
          <p:spPr>
            <a:xfrm>
              <a:off x="1403280" y="1892160"/>
              <a:ext cx="6264360" cy="46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50920" y="4518000"/>
              <a:ext cx="1295280" cy="215640"/>
            </a:xfrm>
            <a:prstGeom prst="rightArrow">
              <a:avLst>
                <a:gd name="adj1" fmla="val 50000"/>
                <a:gd name="adj2" fmla="val 1501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5280" y="4627440"/>
              <a:ext cx="5473440" cy="0"/>
            </a:xfrm>
            <a:prstGeom prst="line">
              <a:avLst/>
            </a:prstGeom>
            <a:ln cap="rnd" w="38160">
              <a:solidFill>
                <a:srgbClr val="00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5561280" y="1800720"/>
              <a:ext cx="828720" cy="360360"/>
            </a:xfrm>
            <a:prstGeom prst="rightArrow">
              <a:avLst>
                <a:gd name="adj1" fmla="val 50000"/>
                <a:gd name="adj2" fmla="val 57493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4720" y="2395440"/>
              <a:ext cx="1295640" cy="2305080"/>
            </a:xfrm>
            <a:custGeom>
              <a:avLst/>
              <a:gdLst/>
              <a:ahLst/>
              <a:rect l="l" t="t" r="r" b="b"/>
              <a:pathLst>
                <a:path w="816" h="1452">
                  <a:moveTo>
                    <a:pt x="0" y="0"/>
                  </a:moveTo>
                  <a:cubicBezTo>
                    <a:pt x="147" y="90"/>
                    <a:pt x="295" y="181"/>
                    <a:pt x="408" y="272"/>
                  </a:cubicBezTo>
                  <a:cubicBezTo>
                    <a:pt x="521" y="363"/>
                    <a:pt x="620" y="461"/>
                    <a:pt x="680" y="544"/>
                  </a:cubicBezTo>
                  <a:cubicBezTo>
                    <a:pt x="740" y="627"/>
                    <a:pt x="748" y="695"/>
                    <a:pt x="771" y="771"/>
                  </a:cubicBezTo>
                  <a:cubicBezTo>
                    <a:pt x="794" y="847"/>
                    <a:pt x="816" y="922"/>
                    <a:pt x="816" y="998"/>
                  </a:cubicBezTo>
                  <a:cubicBezTo>
                    <a:pt x="816" y="1074"/>
                    <a:pt x="801" y="1149"/>
                    <a:pt x="771" y="1225"/>
                  </a:cubicBezTo>
                  <a:cubicBezTo>
                    <a:pt x="741" y="1301"/>
                    <a:pt x="658" y="1414"/>
                    <a:pt x="635" y="145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D3AC-A884-4298-AD00-12C838DBD1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Oceania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9079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6 52 S 174 46 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Map of Oceania"/>
          <p:cNvPicPr/>
          <p:nvPr/>
        </p:nvPicPr>
        <p:blipFill>
          <a:blip r:embed="rId2"/>
          <a:stretch/>
        </p:blipFill>
        <p:spPr>
          <a:xfrm>
            <a:off x="971640" y="1405080"/>
            <a:ext cx="7056360" cy="521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02800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28000" y="4005360"/>
            <a:ext cx="144360" cy="1224000"/>
          </a:xfrm>
          <a:prstGeom prst="upDownArrow">
            <a:avLst>
              <a:gd name="adj1" fmla="val 50000"/>
              <a:gd name="adj2" fmla="val 168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5805360"/>
            <a:ext cx="1008000" cy="216000"/>
          </a:xfrm>
          <a:prstGeom prst="leftRightArrow">
            <a:avLst>
              <a:gd name="adj1" fmla="val 50000"/>
              <a:gd name="adj2" fmla="val 9290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4076640"/>
            <a:ext cx="1079640" cy="1081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7AC6-6421-4E3D-85DC-B7C572717C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2266"/>
                </a:solidFill>
                <a:latin typeface="Comic Sans MS"/>
              </a:rPr>
              <a:t>New Zealand 36 52 S 174 46 E</a:t>
            </a:r>
            <a:br>
              <a:rPr sz="4000"/>
            </a:br>
            <a:endParaRPr b="0" lang="en-US" sz="4000" spc="-1" strike="noStrike">
              <a:solidFill>
                <a:srgbClr val="aa2266"/>
              </a:solidFill>
              <a:latin typeface="Comic Sans MS"/>
            </a:endParaRPr>
          </a:p>
        </p:txBody>
      </p:sp>
      <p:pic>
        <p:nvPicPr>
          <p:cNvPr id="175" name="" descr="Map of New Zealand (Oceania)"/>
          <p:cNvPicPr/>
          <p:nvPr/>
        </p:nvPicPr>
        <p:blipFill>
          <a:blip r:embed="rId1"/>
          <a:stretch/>
        </p:blipFill>
        <p:spPr>
          <a:xfrm>
            <a:off x="611280" y="966960"/>
            <a:ext cx="7416720" cy="5484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421240" y="1700280"/>
            <a:ext cx="287280" cy="3889440"/>
          </a:xfrm>
          <a:prstGeom prst="upArrow">
            <a:avLst>
              <a:gd name="adj1" fmla="val 50000"/>
              <a:gd name="adj2" fmla="val 3384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1484280"/>
            <a:ext cx="2089080" cy="289080"/>
          </a:xfrm>
          <a:prstGeom prst="leftArrow">
            <a:avLst>
              <a:gd name="adj1" fmla="val 50000"/>
              <a:gd name="adj2" fmla="val 18066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2205000"/>
            <a:ext cx="2592360" cy="2303640"/>
          </a:xfrm>
          <a:prstGeom prst="wedgeRectCallout">
            <a:avLst>
              <a:gd name="adj1" fmla="val 104134"/>
              <a:gd name="adj2" fmla="val -84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letters – so we have a choice. Its close but whi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one your are after is usually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64B6-84B1-4831-BBD8-F8E4A07A6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2335"/>
          <a:stretch/>
        </p:blipFill>
        <p:spPr>
          <a:xfrm>
            <a:off x="395280" y="620640"/>
            <a:ext cx="5469120" cy="6048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443280" y="404640"/>
            <a:ext cx="231948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th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igeria is B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Zambi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is Sudan MOSTL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ypt mostl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me 2 countries in A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89000"/>
            <a:ext cx="54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33360"/>
            <a:ext cx="547200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                    B                 C                  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1268280"/>
            <a:ext cx="360360" cy="52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A8A2-9984-44C6-97EB-EE987990EE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What about places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83822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Nigeria, is Abu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index for page 51 it would 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u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  10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11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4 tells you which squ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maining pieces of information tell you exactly where in                                       B4 it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  10N tells you the                                 latit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 11E tells you the                                          longit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5148360" y="4076640"/>
            <a:ext cx="37465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0AEA-3EF0-4BE8-9B00-48C25453BD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-70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4121280" cy="4410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atitud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AE56-D1C3-4ACA-A780-997D480E03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-70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4381560" cy="4294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Longitude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CC0C-F565-4A83-88C9-0B4D35F934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2266"/>
                </a:solidFill>
                <a:latin typeface="Comic Sans MS"/>
              </a:rPr>
              <a:t>Lines</a:t>
            </a:r>
            <a:endParaRPr b="0" lang="en-US" sz="48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ngitude lines run north and sout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itude lines run east and west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ines measure distances in degree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1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286380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19920" y="4724280"/>
            <a:ext cx="2819160" cy="838440"/>
          </a:xfrm>
          <a:prstGeom prst="leftArrow">
            <a:avLst>
              <a:gd name="adj1" fmla="val 50000"/>
              <a:gd name="adj2" fmla="val 840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181480"/>
            <a:ext cx="2971800" cy="838440"/>
          </a:xfrm>
          <a:prstGeom prst="rightArrow">
            <a:avLst>
              <a:gd name="adj1" fmla="val 50000"/>
              <a:gd name="adj2" fmla="val 88611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A083-D9D5-49BD-AFA6-8EA0910815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2266"/>
                </a:solidFill>
                <a:latin typeface="Comic Sans MS"/>
              </a:rPr>
              <a:t>Where is 0 degree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0 degree latitude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 is an imaginary belt that runs halfway point between the North Pole and the South Po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equator" descr=""/>
          <p:cNvPicPr/>
          <p:nvPr/>
        </p:nvPicPr>
        <p:blipFill>
          <a:blip r:embed="rId3"/>
          <a:stretch/>
        </p:blipFill>
        <p:spPr>
          <a:xfrm>
            <a:off x="4038480" y="40384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4343400"/>
            <a:ext cx="3504960" cy="1981080"/>
          </a:xfrm>
          <a:prstGeom prst="rightArrow">
            <a:avLst>
              <a:gd name="adj1" fmla="val 50000"/>
              <a:gd name="adj2" fmla="val 442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qu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6B95-3B2C-4B7D-8BF1-A7356E29F5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f"/>
            </a:gs>
            <a:gs pos="100000">
              <a:srgbClr val="def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266"/>
                </a:solidFill>
                <a:latin typeface="Comic Sans MS"/>
              </a:rPr>
              <a:t>Where is 0 degree?</a:t>
            </a:r>
            <a:endParaRPr b="0" lang="en-US" sz="4400" spc="-1" strike="noStrike">
              <a:solidFill>
                <a:srgbClr val="aa22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9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me meridi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0 degrees longitude.  This imaginary line runs through the United Kingdom, France, Spain, western Africa, and Antar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MP00012_" descr=""/>
          <p:cNvPicPr/>
          <p:nvPr/>
        </p:nvPicPr>
        <p:blipFill>
          <a:blip r:embed="rId2"/>
          <a:stretch/>
        </p:blipFill>
        <p:spPr>
          <a:xfrm>
            <a:off x="6095880" y="3962520"/>
            <a:ext cx="2565360" cy="25905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019920" y="0"/>
            <a:ext cx="2743200" cy="4038480"/>
            <a:chOff x="6019920" y="0"/>
            <a:chExt cx="2743200" cy="4038480"/>
          </a:xfrm>
        </p:grpSpPr>
        <p:sp>
          <p:nvSpPr>
            <p:cNvPr id="86" name=""/>
            <p:cNvSpPr/>
            <p:nvPr/>
          </p:nvSpPr>
          <p:spPr>
            <a:xfrm>
              <a:off x="6019920" y="0"/>
              <a:ext cx="2743200" cy="4038480"/>
            </a:xfrm>
            <a:prstGeom prst="downArrow">
              <a:avLst>
                <a:gd name="adj1" fmla="val 50000"/>
                <a:gd name="adj2" fmla="val 36804"/>
              </a:avLst>
            </a:prstGeom>
            <a:solidFill>
              <a:srgbClr val="00f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0"/>
              <a:ext cx="457200" cy="3796920"/>
            </a:xfrm>
            <a:prstGeom prst="rect">
              <a:avLst/>
            </a:prstGeom>
            <a:solidFill>
              <a:srgbClr val="00f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7840" y="0"/>
              <a:ext cx="761760" cy="3576240"/>
            </a:xfrm>
            <a:prstGeom prst="rect">
              <a:avLst/>
            </a:prstGeom>
            <a:solidFill>
              <a:srgbClr val="00f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54DF-7EE0-4A46-8758-67B95935C0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22:58:59Z</dcterms:created>
  <dc:creator>MS OFFICE</dc:creator>
  <dc:description/>
  <dc:language>en-US</dc:language>
  <cp:lastModifiedBy>Lindy</cp:lastModifiedBy>
  <dcterms:modified xsi:type="dcterms:W3CDTF">2008-09-05T09:55:39Z</dcterms:modified>
  <cp:revision>26</cp:revision>
  <dc:subject/>
  <dc:title>PowerPoint Presentation</dc:title>
</cp:coreProperties>
</file>